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22F8-6B84-4F01-9A6B-50DBEA6E31C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43A0-1A35-4A1E-A242-4096DEB4630C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C37A4-2334-4E1F-85EF-9A17BD86D52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FDA6-18FD-42A0-97A9-E00FD8B34BC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2CE5-79A0-4CE2-A6BA-4E597D5113A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70EB-141E-46EB-91B5-BF44299955F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2E2A-2F4B-443E-BF2C-130CE168A02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3151B-B47F-4D52-AC33-12B9A2A62F1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3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ing th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Diagram 1" descr=""/>
          <p:cNvPicPr/>
          <p:nvPr/>
        </p:nvPicPr>
        <p:blipFill>
          <a:blip r:embed="rId1"/>
          <a:stretch/>
        </p:blipFill>
        <p:spPr>
          <a:xfrm>
            <a:off x="1474920" y="1384200"/>
            <a:ext cx="61941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57320" y="1928880"/>
            <a:ext cx="702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7058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403280" y="1805040"/>
            <a:ext cx="6934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2"/>
          <p:cNvSpPr/>
          <p:nvPr/>
        </p:nvSpPr>
        <p:spPr>
          <a:xfrm>
            <a:off x="1547640" y="1700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tinue to refine and develop content and strategies for your QI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Cloud Callout 1"/>
          <p:cNvSpPr/>
          <p:nvPr/>
        </p:nvSpPr>
        <p:spPr>
          <a:xfrm>
            <a:off x="2771640" y="3573360"/>
            <a:ext cx="4392720" cy="2016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16000" y="1665360"/>
            <a:ext cx="7570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n awareness of  a strengths based approach to  unpacking the standard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on  positive psychology, strengths and virtue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 summary or FAQs for Standards for ‘hard to engage team members’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Analyse the standards looking at the relative strengths of the centre and the areas of growth that form the basis of the QIP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and share ideas about QIP development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611280" y="170028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222268"/>
                </a:solidFill>
                <a:latin typeface="Calibri"/>
                <a:ea typeface="Calibri"/>
              </a:rPr>
              <a:t>Focus upon the strengths (not knowledge) of your individual team members and think about what each team member brings to the NQF process and the cent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ositive Psychology in the Work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3481560" cy="3313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76880" y="2421000"/>
            <a:ext cx="26049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criteria for streng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125800" y="1484280"/>
            <a:ext cx="4965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virtu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47640" y="1665360"/>
            <a:ext cx="349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Wisdom and knowled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Coura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Humanity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Justi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ransende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strengths as they relate to the virtu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562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4-28T07:02:15Z</dcterms:modified>
  <cp:revision>454</cp:revision>
  <dc:subject/>
  <dc:title>Survival Skills for Managers</dc:title>
</cp:coreProperties>
</file>