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49AF-0072-45C5-8023-8BD47BB88C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4847-9DB5-46F2-9308-4A6807C302B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Facilitators Notes: - Display this slide and read note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ART goals are ones that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cific – not broad or open ended. They actually describe what you want to achieve in a clear and concis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urable – you can determine what progress you are making towards achieving the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tainable – you must be able to realistically achieve each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sponsible – you need to identify a person who will oversee and be responsible for the goal. This assists to provide ownership or accountability for the g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ely – each goal must have an allocated timeframe. This means you are more likely to review and achieve the goal. By having timeframes it encourages a more specific approach to planning for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are meaningful goals to your serv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EFE4-9E2C-49EB-B8C4-C150830E94CB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Group Discussion: What does a SMART goals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do we know if our goal is SM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amples of goals for discus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pecific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be the best service;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review our daily communication practices with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easur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r families love u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a family focus group work and educators/staff representatives to review our commun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ttain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on’t have any parent complaint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our daily conversations to provide meaningful information to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ealistic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amilies will write in our day book if they have any feedback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feedback from conversations with families to inform our practices and progress our Q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imely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always do thi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established our family focus group by June  and completed our review by Sept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AC04-293B-44B8-AC10-70E2EE91A30E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9ECF-A4CB-4A7E-9DC3-6607915CF2C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35AB-4C4A-4F69-80F9-C55E756C26C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33A-3777-4FBF-B6F2-916E6E67B2B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072E-567C-45AD-81DC-955F21D83C6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8C66-FB78-4A34-9C28-78AF638675A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D4AF-3EC6-43E1-BD15-36977E65B0C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A7B-7CB5-4D37-A241-3D65BD385CF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4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benefits of using Plain English </a:t>
            </a:r>
            <a:br>
              <a:rPr sz="3200"/>
            </a:b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(http://www.plainenglishfoundation.com/index.php/plain-english/benefit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547640" y="1557360"/>
            <a:ext cx="741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AD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easy to read and absorb in one sitting. (Don’t aim to be complicated or academic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FFICIENC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uccinct. Most documents can be reduced by one third. Write less + less to read + reduce paper and printing = workplace econom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ay WHO will do the action (ACTIVE VOICE) rather than using general “officialese” writing where no-one is clear on how the goal will be achieve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REDI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Add to your professional credibility by avoiding pretentious, inappropriate or error-ridden writi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5" descr="images.jpg"/>
          <p:cNvPicPr/>
          <p:nvPr/>
        </p:nvPicPr>
        <p:blipFill>
          <a:blip r:embed="rId1"/>
          <a:srcRect l="282" t="316" r="3930" b="256"/>
          <a:stretch/>
        </p:blipFill>
        <p:spPr>
          <a:xfrm>
            <a:off x="2124000" y="1700280"/>
            <a:ext cx="4610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-Looking at each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815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400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187280" y="1944720"/>
            <a:ext cx="4897440" cy="4457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ular Callout 4"/>
          <p:cNvSpPr/>
          <p:nvPr/>
        </p:nvSpPr>
        <p:spPr>
          <a:xfrm>
            <a:off x="6372360" y="3716280"/>
            <a:ext cx="2771640" cy="2305080"/>
          </a:xfrm>
          <a:prstGeom prst="wedgeRectCallout">
            <a:avLst>
              <a:gd name="adj1" fmla="val -65638"/>
              <a:gd name="adj2" fmla="val -2009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RESPONSIBL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tting 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76000" y="1557360"/>
            <a:ext cx="7202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Specif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To incorporate sustainable practices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Measur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measure our success by having the worm farm, compost and paper recycling as part of everyday practice. 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Attain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work with the children to recycle paper, collect compost and set up a worm farm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Realist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 We will investigate paper recycling options, types of compost bins and worm farms; including costs and set up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Timely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achieve this by June.</a:t>
            </a: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Sm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On REQUEST…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Using a PDF document to search for key information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1547640" y="1700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sider ongoing self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Cloud Callout 1"/>
          <p:cNvSpPr/>
          <p:nvPr/>
        </p:nvSpPr>
        <p:spPr>
          <a:xfrm>
            <a:off x="2771640" y="3141720"/>
            <a:ext cx="4392720" cy="2448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6000" y="1197000"/>
            <a:ext cx="7210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the assessment and rating proces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iscuss and document concerns and issues relating to the QIP 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 on writing and documentation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FAQs team members on the assessment by ACO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peer reflection and analysis on Quality Improvement Plan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690640" y="152280"/>
            <a:ext cx="3969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611280" y="1700280"/>
            <a:ext cx="35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Your Assessment and Compliance officer has come to assess your service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In Thinking pairs explain how you undertook the self assessment process and development of the QIP and why it is contributing to  qua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é-Concerns an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for clear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476360" y="1035000"/>
            <a:ext cx="849636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1. Clearly state your main message and don’t bury it in detai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2.  Structure your text to place the most important information firs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3. Pay attention to design and layout as well as to the languag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4. Use a formal but friendly ton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5. Use short, familiar words, rather than long words to sound impressiv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6. Prefer the active to the passive voic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(ACTIVE = subject performs the action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7. Be ruthless on clutter — remove words and details that add little valu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8. Use sentences which average 15−20 words, and vary them 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be between 10 and 35 word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9. Check for errors in spelling, grammar and punctuat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32400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Plain Englis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258920" y="1832040"/>
            <a:ext cx="70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ing style that reader can understand in ONE read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clear concise ex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ffective struc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good document desig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pports clarity rather than confu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navigator”……Teac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rbologist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mestic Goddess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tination navig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ion clearance engineer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Cloud Callout 3"/>
          <p:cNvSpPr/>
          <p:nvPr/>
        </p:nvSpPr>
        <p:spPr>
          <a:xfrm>
            <a:off x="6372360" y="2349360"/>
            <a:ext cx="3456000" cy="3743640"/>
          </a:xfrm>
          <a:prstGeom prst="cloudCallout">
            <a:avLst>
              <a:gd name="adj1" fmla="val -57763"/>
              <a:gd name="adj2" fmla="val -4026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 PLAIN ENGLISH coined in 1940’s by Sir Ernest Arthur Gowers…wrote guide on avoiding pompous and over elaborate writing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5-12T23:32:00Z</dcterms:modified>
  <cp:revision>461</cp:revision>
  <dc:subject/>
  <dc:title>Survival Skills for Managers</dc:title>
</cp:coreProperties>
</file>