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3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1E17-1D50-4D15-8AE9-27460BE361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50D5B-733B-4EBE-9B0A-6EB9090204B9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Facilitators Notes: - Display this slide and read notes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MART goals are ones that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ecific – not broad or open ended. They actually describe what you want to achieve in a clear and concise ma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asurable – you can determine what progress you are making towards achieving the go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tainable – you must be able to realistically achieve each go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sponsible – you need to identify a person who will oversee and be responsible for the goal. This assists to provide ownership or accountability for the go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mely – each goal must have an allocated timeframe. This means you are more likely to review and achieve the goal. By having timeframes it encourages a more specific approach to planning for qual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y are meaningful goals to your serv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E630-2566-419B-86DB-0BB3C11BB148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Group Discussion: What does a SMART goals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do we know if our goal is SMAR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xamples of goals for discus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pecific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be the best service; 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review our daily communication practices with famil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Measurabl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ur families love us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have a family focus group work and educators/staff representatives to review our commun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Attainabl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on’t have any parent complaints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use our daily conversations to provide meaningful information to famil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Realistic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amilies will write in our day book if they have any feedback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use feedback from conversations with families to inform our practices and progress our Q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Timely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always do this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have established our family focus group by June  and completed our review by Septe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D4317-A62D-494A-851E-C9E252774162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F8E3D-C5ED-4CE3-A041-9EFC261DB3FD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A255-355E-4EBE-9C95-79115D842847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2FDC2-A1E9-4D0B-8BED-9FD5F528166F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961B4-798A-4034-91B4-255BD42780A2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5709F-D244-4921-80BD-C2FB7F46623D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FE45-08E9-4864-8509-44A9BCF787F1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E51F-4AE7-4C46-BE51-1EA0F5D261A6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5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0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"/>
          <p:cNvSpPr/>
          <p:nvPr/>
        </p:nvSpPr>
        <p:spPr>
          <a:xfrm>
            <a:off x="0" y="1989000"/>
            <a:ext cx="9144000" cy="33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Rectangle 112"/>
          <p:cNvSpPr/>
          <p:nvPr/>
        </p:nvSpPr>
        <p:spPr>
          <a:xfrm>
            <a:off x="0" y="5229360"/>
            <a:ext cx="810108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" name="Picture 97" descr="csc_pp_logoshapes"/>
          <p:cNvPicPr/>
          <p:nvPr/>
        </p:nvPicPr>
        <p:blipFill>
          <a:blip r:embed="rId3"/>
          <a:stretch/>
        </p:blipFill>
        <p:spPr>
          <a:xfrm>
            <a:off x="7763040" y="3897360"/>
            <a:ext cx="1380960" cy="296064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89"/>
          <p:cNvGrpSpPr/>
          <p:nvPr/>
        </p:nvGrpSpPr>
        <p:grpSpPr>
          <a:xfrm>
            <a:off x="0" y="1557360"/>
            <a:ext cx="9144000" cy="431640"/>
            <a:chOff x="0" y="1557360"/>
            <a:chExt cx="9144000" cy="431640"/>
          </a:xfrm>
        </p:grpSpPr>
        <p:pic>
          <p:nvPicPr>
            <p:cNvPr id="4" name="Picture 90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91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92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557360"/>
              <a:ext cx="18349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3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4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Line 77"/>
          <p:cNvSpPr/>
          <p:nvPr/>
        </p:nvSpPr>
        <p:spPr>
          <a:xfrm>
            <a:off x="0" y="1521000"/>
            <a:ext cx="9144000" cy="0"/>
          </a:xfrm>
          <a:prstGeom prst="line">
            <a:avLst/>
          </a:prstGeom>
          <a:ln w="88920">
            <a:solidFill>
              <a:srgbClr val="471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900000" y="3644640"/>
            <a:ext cx="5904000" cy="20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1" marL="319320" indent="-12276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2" marL="49140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3" marL="68796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4" marL="88452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5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6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" name="Group 113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13" name="Picture 104" descr="CSCheader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Rectangle 105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Rectangle 106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" name="Rectangle 107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" name="Rectangle 108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" name="Rectangle 110"/>
          <p:cNvSpPr/>
          <p:nvPr/>
        </p:nvSpPr>
        <p:spPr>
          <a:xfrm>
            <a:off x="0" y="1978200"/>
            <a:ext cx="914400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Rectangle 83"/>
          <p:cNvSpPr/>
          <p:nvPr/>
        </p:nvSpPr>
        <p:spPr>
          <a:xfrm>
            <a:off x="0" y="160668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Rectangle 111"/>
          <p:cNvSpPr/>
          <p:nvPr/>
        </p:nvSpPr>
        <p:spPr>
          <a:xfrm>
            <a:off x="0" y="1557360"/>
            <a:ext cx="9144000" cy="4316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" name="Picture 116" descr="cccclogo [Converted]"/>
          <p:cNvPicPr/>
          <p:nvPr/>
        </p:nvPicPr>
        <p:blipFill>
          <a:blip r:embed="rId10"/>
          <a:stretch/>
        </p:blipFill>
        <p:spPr>
          <a:xfrm>
            <a:off x="5904000" y="5708520"/>
            <a:ext cx="1747800" cy="79848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1" descr=""/>
          <p:cNvPicPr/>
          <p:nvPr/>
        </p:nvPicPr>
        <p:blipFill>
          <a:blip r:embed="rId11"/>
          <a:stretch/>
        </p:blipFill>
        <p:spPr>
          <a:xfrm>
            <a:off x="4049640" y="5388120"/>
            <a:ext cx="146052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9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60" name="Picture 30" descr="CSCheade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31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Rectangle 32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Rectangle 33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Rectangle 34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65" name="Picture 11" descr="csc_pp_logoshapes"/>
          <p:cNvPicPr/>
          <p:nvPr/>
        </p:nvPicPr>
        <p:blipFill>
          <a:blip r:embed="rId3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6"/>
          <p:cNvSpPr/>
          <p:nvPr/>
        </p:nvSpPr>
        <p:spPr>
          <a:xfrm>
            <a:off x="838080" y="731880"/>
            <a:ext cx="6945480" cy="644400"/>
          </a:xfrm>
          <a:prstGeom prst="roundRect">
            <a:avLst>
              <a:gd name="adj" fmla="val 16667"/>
            </a:avLst>
          </a:prstGeom>
          <a:solidFill>
            <a:srgbClr val="471f9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58104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584360" y="1747800"/>
            <a:ext cx="68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0" y="1384200"/>
            <a:ext cx="9144000" cy="0"/>
          </a:xfrm>
          <a:prstGeom prst="line">
            <a:avLst/>
          </a:prstGeom>
          <a:ln w="44280">
            <a:solidFill>
              <a:srgbClr val="472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71" name="Rectangle 12"/>
          <p:cNvGrpSpPr/>
          <p:nvPr/>
        </p:nvGrpSpPr>
        <p:grpSpPr>
          <a:xfrm>
            <a:off x="0" y="6450120"/>
            <a:ext cx="9144000" cy="444240"/>
            <a:chOff x="0" y="6450120"/>
            <a:chExt cx="9144000" cy="444240"/>
          </a:xfrm>
        </p:grpSpPr>
        <p:pic>
          <p:nvPicPr>
            <p:cNvPr id="72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6450120"/>
              <a:ext cx="914400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0" y="6453360"/>
              <a:ext cx="91440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74" name="Group 18"/>
          <p:cNvGrpSpPr/>
          <p:nvPr/>
        </p:nvGrpSpPr>
        <p:grpSpPr>
          <a:xfrm>
            <a:off x="0" y="1401840"/>
            <a:ext cx="9144000" cy="323640"/>
            <a:chOff x="0" y="1401840"/>
            <a:chExt cx="9144000" cy="323640"/>
          </a:xfrm>
        </p:grpSpPr>
        <p:pic>
          <p:nvPicPr>
            <p:cNvPr id="75" name="Picture 19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>
              <a:off x="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0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 flipH="1">
              <a:off x="183672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1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>
              <a:off x="3672000" y="14018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2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 flipH="1">
              <a:off x="547056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3" descr="coloursrect"/>
            <p:cNvPicPr/>
            <p:nvPr/>
          </p:nvPicPr>
          <p:blipFill>
            <a:blip r:embed="rId9"/>
            <a:srcRect l="0" t="0" r="11716" b="0"/>
            <a:stretch/>
          </p:blipFill>
          <p:spPr>
            <a:xfrm>
              <a:off x="730872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Rectangle 26"/>
          <p:cNvSpPr/>
          <p:nvPr/>
        </p:nvSpPr>
        <p:spPr>
          <a:xfrm>
            <a:off x="0" y="1233360"/>
            <a:ext cx="9144000" cy="4874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0" y="141300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" name="Picture 39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"/>
          <p:cNvPicPr/>
          <p:nvPr/>
        </p:nvPicPr>
        <p:blipFill>
          <a:blip r:embed="rId11"/>
          <a:stretch/>
        </p:blipFill>
        <p:spPr>
          <a:xfrm>
            <a:off x="316080" y="4653000"/>
            <a:ext cx="906120" cy="76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8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15" descr="csc_pp_logoshapes"/>
          <p:cNvPicPr/>
          <p:nvPr/>
        </p:nvPicPr>
        <p:blipFill>
          <a:blip r:embed="rId2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0" y="1305000"/>
            <a:ext cx="9144000" cy="555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5" name="Rectangle 11"/>
          <p:cNvGrpSpPr/>
          <p:nvPr/>
        </p:nvGrpSpPr>
        <p:grpSpPr>
          <a:xfrm>
            <a:off x="0" y="6424560"/>
            <a:ext cx="9144000" cy="446040"/>
            <a:chOff x="0" y="6424560"/>
            <a:chExt cx="9144000" cy="446040"/>
          </a:xfrm>
        </p:grpSpPr>
        <p:pic>
          <p:nvPicPr>
            <p:cNvPr id="126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6424560"/>
              <a:ext cx="91440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6427800"/>
              <a:ext cx="91440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8" name="Group 18"/>
          <p:cNvGrpSpPr/>
          <p:nvPr/>
        </p:nvGrpSpPr>
        <p:grpSpPr>
          <a:xfrm>
            <a:off x="0" y="1123920"/>
            <a:ext cx="9144000" cy="324000"/>
            <a:chOff x="0" y="1123920"/>
            <a:chExt cx="9144000" cy="324000"/>
          </a:xfrm>
        </p:grpSpPr>
        <p:pic>
          <p:nvPicPr>
            <p:cNvPr id="129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123920"/>
              <a:ext cx="183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2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3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24"/>
          <p:cNvSpPr/>
          <p:nvPr/>
        </p:nvSpPr>
        <p:spPr>
          <a:xfrm>
            <a:off x="0" y="1108080"/>
            <a:ext cx="9144000" cy="34272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Picture 33" descr="CSC_cmyk-PMSbreak_portrait"/>
          <p:cNvPicPr/>
          <p:nvPr/>
        </p:nvPicPr>
        <p:blipFill>
          <a:blip r:embed="rId9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6"/>
          <p:cNvGrpSpPr/>
          <p:nvPr/>
        </p:nvGrpSpPr>
        <p:grpSpPr>
          <a:xfrm>
            <a:off x="0" y="1106640"/>
            <a:ext cx="9144000" cy="323640"/>
            <a:chOff x="0" y="1106640"/>
            <a:chExt cx="9144000" cy="323640"/>
          </a:xfrm>
        </p:grpSpPr>
        <p:pic>
          <p:nvPicPr>
            <p:cNvPr id="175" name="Picture 17" descr="coloursrect"/>
            <p:cNvPicPr/>
            <p:nvPr/>
          </p:nvPicPr>
          <p:blipFill>
            <a:blip r:embed="rId2"/>
            <a:srcRect l="0" t="0" r="11716" b="0"/>
            <a:stretch/>
          </p:blipFill>
          <p:spPr>
            <a:xfrm>
              <a:off x="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8" descr="coloursrect"/>
            <p:cNvPicPr/>
            <p:nvPr/>
          </p:nvPicPr>
          <p:blipFill>
            <a:blip r:embed="rId3"/>
            <a:srcRect l="0" t="0" r="11716" b="0"/>
            <a:stretch/>
          </p:blipFill>
          <p:spPr>
            <a:xfrm flipH="1">
              <a:off x="183672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3672000" y="11066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547056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730872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Rectangle 2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32076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727280" y="1736280"/>
            <a:ext cx="69595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0" y="1119240"/>
            <a:ext cx="9144000" cy="0"/>
          </a:xfrm>
          <a:prstGeom prst="line">
            <a:avLst/>
          </a:prstGeom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6416640"/>
            <a:ext cx="9144000" cy="44136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aa55aa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5" name="Picture 13" descr="csc_logoshapes2"/>
          <p:cNvPicPr/>
          <p:nvPr/>
        </p:nvPicPr>
        <p:blipFill>
          <a:blip r:embed="rId7"/>
          <a:stretch/>
        </p:blipFill>
        <p:spPr>
          <a:xfrm>
            <a:off x="7983360" y="3933720"/>
            <a:ext cx="1160640" cy="24847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3"/>
          <p:cNvSpPr/>
          <p:nvPr/>
        </p:nvSpPr>
        <p:spPr>
          <a:xfrm>
            <a:off x="0" y="1139760"/>
            <a:ext cx="9144000" cy="3002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8" name="Picture 30" descr="CSC_cmyk-PMSbreak_portrait"/>
          <p:cNvPicPr/>
          <p:nvPr/>
        </p:nvPicPr>
        <p:blipFill>
          <a:blip r:embed="rId8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2" descr="cccclogo [Converted]"/>
          <p:cNvPicPr/>
          <p:nvPr/>
        </p:nvPicPr>
        <p:blipFill>
          <a:blip r:embed="rId9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56760" y="2785680"/>
            <a:ext cx="8280360" cy="1857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National Quality Framework</a:t>
            </a:r>
            <a:br>
              <a:rPr sz="4000"/>
            </a:b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Preparation Working Groups Session 4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benefits of using Plain English </a:t>
            </a:r>
            <a:br>
              <a:rPr sz="3200"/>
            </a:b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(http://www.plainenglishfoundation.com/index.php/plain-english/benefits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1"/>
          <p:cNvSpPr/>
          <p:nvPr/>
        </p:nvSpPr>
        <p:spPr>
          <a:xfrm>
            <a:off x="1547640" y="1557360"/>
            <a:ext cx="7417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READABILIT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easy to read and absorb in one sitting. (Don’t aim to be complicated or academic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FFICIENC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succinct. Most documents can be reduced by one third. Write less + less to read + reduce paper and printing = workplace economy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CCOUNTABILIT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Say WHO will do the action (ACTIVE VOICE) rather than using general “officialese” writing where no-one is clear on how the goal will be achieved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REDIBILIT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Add to your professional credibility by avoiding pretentious, inappropriate or error-ridden writing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Content Placeholder 5" descr="images.jpg"/>
          <p:cNvPicPr/>
          <p:nvPr/>
        </p:nvPicPr>
        <p:blipFill>
          <a:blip r:embed="rId1"/>
          <a:srcRect l="282" t="316" r="3930" b="256"/>
          <a:stretch/>
        </p:blipFill>
        <p:spPr>
          <a:xfrm>
            <a:off x="2124000" y="1700280"/>
            <a:ext cx="46101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riting the QIP-Looking at each 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18156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4007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MART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1187280" y="1944720"/>
            <a:ext cx="4897440" cy="4457520"/>
          </a:xfrm>
          <a:prstGeom prst="rect">
            <a:avLst/>
          </a:prstGeom>
          <a:ln w="0">
            <a:noFill/>
          </a:ln>
        </p:spPr>
      </p:pic>
      <p:sp>
        <p:nvSpPr>
          <p:cNvPr id="262" name="Rectangular Callout 4"/>
          <p:cNvSpPr/>
          <p:nvPr/>
        </p:nvSpPr>
        <p:spPr>
          <a:xfrm>
            <a:off x="6372360" y="3716280"/>
            <a:ext cx="2771640" cy="2305080"/>
          </a:xfrm>
          <a:prstGeom prst="wedgeRectCallout">
            <a:avLst>
              <a:gd name="adj1" fmla="val -65638"/>
              <a:gd name="adj2" fmla="val -2009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Arial"/>
              </a:rPr>
              <a:t>RESPONSIBLE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etting SMART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76000" y="1557360"/>
            <a:ext cx="72025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Specific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To incorporate sustainable practices.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Measurable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We will measure our success by having the worm farm, compost and paper recycling as part of everyday practice. 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Attainable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We will work with the children to recycle paper, collect compost and set up a worm farm.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Realistic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 We will investigate paper recycling options, types of compost bins and worm farms; including costs and set up.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Timely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We will achieve this by June.</a:t>
            </a: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Sm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On REQUEST…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Using a PDF document to search for key information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2"/>
          <p:cNvSpPr/>
          <p:nvPr/>
        </p:nvSpPr>
        <p:spPr>
          <a:xfrm>
            <a:off x="1547640" y="1700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Information and knowled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0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Consider ongoing self assess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539640" y="11592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ff"/>
                </a:solidFill>
                <a:latin typeface="Calibri"/>
                <a:ea typeface="Calibri"/>
              </a:rPr>
              <a:t>Homework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Cloud Callout 1"/>
          <p:cNvSpPr/>
          <p:nvPr/>
        </p:nvSpPr>
        <p:spPr>
          <a:xfrm>
            <a:off x="2771640" y="3141720"/>
            <a:ext cx="4392720" cy="244800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are you on your NQF journey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…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and how exactly are we going to do th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332000" y="1665360"/>
            <a:ext cx="7812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Revise and debrief-Revisit code of conduct, NQF on the couch- therapy sessions, questions that have come up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Content, group inquiry and reflect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Homework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Questions and comments from the current sess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Summary for the following week and an agreement on what will be covered.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 rot="20864400">
            <a:off x="177840" y="141264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7030a0"/>
                </a:solidFill>
                <a:latin typeface="Calibri"/>
                <a:ea typeface="Calibri"/>
              </a:rPr>
              <a:t>Every week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Objectives for week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76000" y="1197000"/>
            <a:ext cx="7210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Review the assessment and rating process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iscuss and document concerns and issues relating to the QIP 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Engage in content learning  on writing and documentation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evelop FAQs team members on the assessment by ACOs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Engage in peer reflection and analysis on Quality Improvement Plans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403280" y="1413000"/>
          <a:ext cx="7740720" cy="5032080"/>
        </p:xfrm>
        <a:graphic>
          <a:graphicData uri="http://schemas.openxmlformats.org/drawingml/2006/table">
            <a:tbl>
              <a:tblPr/>
              <a:tblGrid>
                <a:gridCol w="3870360"/>
                <a:gridCol w="3870360"/>
              </a:tblGrid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he group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i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Use our time efficiently  / Focus on the NQF at sessions / stay on tas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Inform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6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upport each other and establish new contact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ovide updated information as available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non-judgemental feed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eek to provide clear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to others viewpoints without interrup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Find out answer that I do not know &amp; report 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how respect for others viewpoints / respect people’s input / value all idea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Challenge and question our current understanding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and value and affirm the group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and share knowledge and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Help group members to achieve their NQF goal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each other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support and encouragement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ther more information to retai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each and lear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Encourage each other to speak. Contribute active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Keep children and families as a focus in our decision making and learning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Be willing to talk openly and honest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epare well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Box 2"/>
          <p:cNvSpPr/>
          <p:nvPr/>
        </p:nvSpPr>
        <p:spPr>
          <a:xfrm>
            <a:off x="1024200" y="6145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OUR CODE OF CONDU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"/>
          <p:cNvPicPr/>
          <p:nvPr/>
        </p:nvPicPr>
        <p:blipFill>
          <a:blip r:embed="rId1"/>
          <a:stretch/>
        </p:blipFill>
        <p:spPr>
          <a:xfrm>
            <a:off x="2690640" y="152280"/>
            <a:ext cx="39690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QF on the C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547640" y="3860640"/>
            <a:ext cx="4162680" cy="22957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3"/>
          <p:cNvSpPr/>
          <p:nvPr/>
        </p:nvSpPr>
        <p:spPr>
          <a:xfrm>
            <a:off x="611280" y="1700280"/>
            <a:ext cx="352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eaeaea"/>
                </a:solidFill>
                <a:latin typeface="Arial"/>
              </a:rPr>
              <a:t>Your Assessment and Compliance officer has come to assess your service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eaeaea"/>
                </a:solidFill>
                <a:latin typeface="Arial"/>
              </a:rPr>
              <a:t>In Thinking pairs explain how you undertook the self assessment process and development of the QIP and why it is contributing to  quality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Cloud Callout 5"/>
          <p:cNvSpPr/>
          <p:nvPr/>
        </p:nvSpPr>
        <p:spPr>
          <a:xfrm>
            <a:off x="4643280" y="1717560"/>
            <a:ext cx="3816360" cy="22989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are your thoughts and what are you thinking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orld Café-Concerns and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4539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riting for clear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476360" y="1035000"/>
            <a:ext cx="8496360" cy="57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1. Clearly state your main message and don’t bury it in detai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2.  Structure your text to place the most important information first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3. Pay attention to design and layout as well as to the languag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4. Use a formal but friendly tone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5. Use short, familiar words, rather than long words to sound impressiv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6. Prefer the active to the passive voice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(ACTIVE = subject performs the action.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7. Be ruthless on clutter — remove words and details that add little valu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8. Use sentences which average 15−20 words, and vary them 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be between 10 and 35 word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9. Check for errors in spelling, grammar and punctuation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324000" y="26028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Plain Englis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1258920" y="1832040"/>
            <a:ext cx="70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riting style that reader can understand in ONE read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clear concise expres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effective struc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good document desig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pports clarity rather than confus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 navigator”……Teach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arbologist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mestic Goddess…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tination navig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sion clearance engineer…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Cloud Callout 3"/>
          <p:cNvSpPr/>
          <p:nvPr/>
        </p:nvSpPr>
        <p:spPr>
          <a:xfrm>
            <a:off x="6372360" y="2349360"/>
            <a:ext cx="3456000" cy="3743640"/>
          </a:xfrm>
          <a:prstGeom prst="cloudCallout">
            <a:avLst>
              <a:gd name="adj1" fmla="val -57763"/>
              <a:gd name="adj2" fmla="val -40268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m PLAIN ENGLISH coined in 1940’s by Sir Ernest Arthur Gowers…wrote guide on avoiding pompous and over elaborate writing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3:38:50Z</dcterms:created>
  <dc:creator>Maria</dc:creator>
  <dc:description/>
  <dc:language>en-US</dc:language>
  <cp:lastModifiedBy>Gai Lindsay</cp:lastModifiedBy>
  <cp:lastPrinted>2011-07-18T22:58:41Z</cp:lastPrinted>
  <dcterms:modified xsi:type="dcterms:W3CDTF">2012-05-12T23:32:00Z</dcterms:modified>
  <cp:revision>461</cp:revision>
  <dc:subject/>
  <dc:title>Survival Skills for Managers</dc:title>
</cp:coreProperties>
</file>