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AAE0-F4B2-4625-99BE-7A2E5E073B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EE16-EBE7-4321-AC53-D1F08DA90CC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362B-EA75-43B7-B7F0-9E680FE2553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CA17-8E54-4713-AF41-1B8C847A2BF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C89D-F044-419A-A2C1-23711DBD174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7548-2329-4FEB-985D-392CC844C5C5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3FA1-E619-4338-8736-E6C66BC5F3F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925B-1E08-4129-AFE5-492D93EDACC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"/>
          <p:cNvSpPr/>
          <p:nvPr/>
        </p:nvSpPr>
        <p:spPr>
          <a:xfrm>
            <a:off x="0" y="1989000"/>
            <a:ext cx="9144000" cy="33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Rectangle 112"/>
          <p:cNvSpPr/>
          <p:nvPr/>
        </p:nvSpPr>
        <p:spPr>
          <a:xfrm>
            <a:off x="0" y="5229360"/>
            <a:ext cx="810108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" name="Picture 97" descr="csc_pp_logoshapes"/>
          <p:cNvPicPr/>
          <p:nvPr/>
        </p:nvPicPr>
        <p:blipFill>
          <a:blip r:embed="rId3"/>
          <a:stretch/>
        </p:blipFill>
        <p:spPr>
          <a:xfrm>
            <a:off x="7763040" y="3897360"/>
            <a:ext cx="1380960" cy="29606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89"/>
          <p:cNvGrpSpPr/>
          <p:nvPr/>
        </p:nvGrpSpPr>
        <p:grpSpPr>
          <a:xfrm>
            <a:off x="0" y="1557360"/>
            <a:ext cx="9144000" cy="431640"/>
            <a:chOff x="0" y="1557360"/>
            <a:chExt cx="9144000" cy="431640"/>
          </a:xfrm>
        </p:grpSpPr>
        <p:pic>
          <p:nvPicPr>
            <p:cNvPr id="4" name="Picture 90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91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92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557360"/>
              <a:ext cx="18349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3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4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Line 77"/>
          <p:cNvSpPr/>
          <p:nvPr/>
        </p:nvSpPr>
        <p:spPr>
          <a:xfrm>
            <a:off x="0" y="1521000"/>
            <a:ext cx="9144000" cy="0"/>
          </a:xfrm>
          <a:prstGeom prst="line">
            <a:avLst/>
          </a:prstGeom>
          <a:ln w="88920">
            <a:solidFill>
              <a:srgbClr val="471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900000" y="3644640"/>
            <a:ext cx="590400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1" marL="319320" indent="-12276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2" marL="49140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3" marL="68796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4" marL="88452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5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6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" name="Group 113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13" name="Picture 104" descr="CSCheader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105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Rectangle 106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Rectangle 107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Rectangle 108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Rectangle 110"/>
          <p:cNvSpPr/>
          <p:nvPr/>
        </p:nvSpPr>
        <p:spPr>
          <a:xfrm>
            <a:off x="0" y="1978200"/>
            <a:ext cx="914400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Rectangle 83"/>
          <p:cNvSpPr/>
          <p:nvPr/>
        </p:nvSpPr>
        <p:spPr>
          <a:xfrm>
            <a:off x="0" y="160668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Rectangle 111"/>
          <p:cNvSpPr/>
          <p:nvPr/>
        </p:nvSpPr>
        <p:spPr>
          <a:xfrm>
            <a:off x="0" y="1557360"/>
            <a:ext cx="9144000" cy="4316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" name="Picture 116" descr="cccclogo [Converted]"/>
          <p:cNvPicPr/>
          <p:nvPr/>
        </p:nvPicPr>
        <p:blipFill>
          <a:blip r:embed="rId10"/>
          <a:stretch/>
        </p:blipFill>
        <p:spPr>
          <a:xfrm>
            <a:off x="5904000" y="5708520"/>
            <a:ext cx="1747800" cy="7984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1" descr=""/>
          <p:cNvPicPr/>
          <p:nvPr/>
        </p:nvPicPr>
        <p:blipFill>
          <a:blip r:embed="rId11"/>
          <a:stretch/>
        </p:blipFill>
        <p:spPr>
          <a:xfrm>
            <a:off x="4049640" y="5388120"/>
            <a:ext cx="146052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9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60" name="Picture 30" descr="CSCheade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31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Rectangle 32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Rectangle 33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Rectangle 34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65" name="Picture 11" descr="csc_pp_logoshapes"/>
          <p:cNvPicPr/>
          <p:nvPr/>
        </p:nvPicPr>
        <p:blipFill>
          <a:blip r:embed="rId3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6"/>
          <p:cNvSpPr/>
          <p:nvPr/>
        </p:nvSpPr>
        <p:spPr>
          <a:xfrm>
            <a:off x="838080" y="731880"/>
            <a:ext cx="6945480" cy="644400"/>
          </a:xfrm>
          <a:prstGeom prst="roundRect">
            <a:avLst>
              <a:gd name="adj" fmla="val 16667"/>
            </a:avLst>
          </a:prstGeom>
          <a:solidFill>
            <a:srgbClr val="471f9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58104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584360" y="1747800"/>
            <a:ext cx="68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0" y="1384200"/>
            <a:ext cx="9144000" cy="0"/>
          </a:xfrm>
          <a:prstGeom prst="line">
            <a:avLst/>
          </a:prstGeom>
          <a:ln w="44280">
            <a:solidFill>
              <a:srgbClr val="472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" name="Rectangle 12"/>
          <p:cNvGrpSpPr/>
          <p:nvPr/>
        </p:nvGrpSpPr>
        <p:grpSpPr>
          <a:xfrm>
            <a:off x="0" y="6450120"/>
            <a:ext cx="9144000" cy="444240"/>
            <a:chOff x="0" y="6450120"/>
            <a:chExt cx="9144000" cy="444240"/>
          </a:xfrm>
        </p:grpSpPr>
        <p:pic>
          <p:nvPicPr>
            <p:cNvPr id="72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6450120"/>
              <a:ext cx="91440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6453360"/>
              <a:ext cx="9144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4" name="Group 18"/>
          <p:cNvGrpSpPr/>
          <p:nvPr/>
        </p:nvGrpSpPr>
        <p:grpSpPr>
          <a:xfrm>
            <a:off x="0" y="1401840"/>
            <a:ext cx="9144000" cy="323640"/>
            <a:chOff x="0" y="1401840"/>
            <a:chExt cx="9144000" cy="323640"/>
          </a:xfrm>
        </p:grpSpPr>
        <p:pic>
          <p:nvPicPr>
            <p:cNvPr id="75" name="Picture 19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>
              <a:off x="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0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 flipH="1">
              <a:off x="183672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1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>
              <a:off x="3672000" y="14018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2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 flipH="1">
              <a:off x="547056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3" descr="coloursrect"/>
            <p:cNvPicPr/>
            <p:nvPr/>
          </p:nvPicPr>
          <p:blipFill>
            <a:blip r:embed="rId9"/>
            <a:srcRect l="0" t="0" r="11716" b="0"/>
            <a:stretch/>
          </p:blipFill>
          <p:spPr>
            <a:xfrm>
              <a:off x="730872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Rectangle 26"/>
          <p:cNvSpPr/>
          <p:nvPr/>
        </p:nvSpPr>
        <p:spPr>
          <a:xfrm>
            <a:off x="0" y="1233360"/>
            <a:ext cx="9144000" cy="4874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0" y="141300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" name="Picture 39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11"/>
          <a:stretch/>
        </p:blipFill>
        <p:spPr>
          <a:xfrm>
            <a:off x="316080" y="4653000"/>
            <a:ext cx="906120" cy="76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8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15" descr="csc_pp_logoshapes"/>
          <p:cNvPicPr/>
          <p:nvPr/>
        </p:nvPicPr>
        <p:blipFill>
          <a:blip r:embed="rId2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1305000"/>
            <a:ext cx="9144000" cy="555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5" name="Rectangle 11"/>
          <p:cNvGrpSpPr/>
          <p:nvPr/>
        </p:nvGrpSpPr>
        <p:grpSpPr>
          <a:xfrm>
            <a:off x="0" y="6424560"/>
            <a:ext cx="9144000" cy="446040"/>
            <a:chOff x="0" y="6424560"/>
            <a:chExt cx="9144000" cy="446040"/>
          </a:xfrm>
        </p:grpSpPr>
        <p:pic>
          <p:nvPicPr>
            <p:cNvPr id="126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6424560"/>
              <a:ext cx="91440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6427800"/>
              <a:ext cx="9144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0" y="1123920"/>
            <a:ext cx="9144000" cy="324000"/>
            <a:chOff x="0" y="1123920"/>
            <a:chExt cx="9144000" cy="324000"/>
          </a:xfrm>
        </p:grpSpPr>
        <p:pic>
          <p:nvPicPr>
            <p:cNvPr id="129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123920"/>
              <a:ext cx="183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3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24"/>
          <p:cNvSpPr/>
          <p:nvPr/>
        </p:nvSpPr>
        <p:spPr>
          <a:xfrm>
            <a:off x="0" y="1108080"/>
            <a:ext cx="9144000" cy="34272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Picture 33" descr="CSC_cmyk-PMSbreak_portrait"/>
          <p:cNvPicPr/>
          <p:nvPr/>
        </p:nvPicPr>
        <p:blipFill>
          <a:blip r:embed="rId9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6"/>
          <p:cNvGrpSpPr/>
          <p:nvPr/>
        </p:nvGrpSpPr>
        <p:grpSpPr>
          <a:xfrm>
            <a:off x="0" y="1106640"/>
            <a:ext cx="9144000" cy="323640"/>
            <a:chOff x="0" y="1106640"/>
            <a:chExt cx="9144000" cy="323640"/>
          </a:xfrm>
        </p:grpSpPr>
        <p:pic>
          <p:nvPicPr>
            <p:cNvPr id="175" name="Picture 17" descr="coloursrect"/>
            <p:cNvPicPr/>
            <p:nvPr/>
          </p:nvPicPr>
          <p:blipFill>
            <a:blip r:embed="rId2"/>
            <a:srcRect l="0" t="0" r="11716" b="0"/>
            <a:stretch/>
          </p:blipFill>
          <p:spPr>
            <a:xfrm>
              <a:off x="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8" descr="coloursrect"/>
            <p:cNvPicPr/>
            <p:nvPr/>
          </p:nvPicPr>
          <p:blipFill>
            <a:blip r:embed="rId3"/>
            <a:srcRect l="0" t="0" r="11716" b="0"/>
            <a:stretch/>
          </p:blipFill>
          <p:spPr>
            <a:xfrm flipH="1">
              <a:off x="183672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3672000" y="11066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547056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730872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Rectangle 2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32076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727280" y="1736280"/>
            <a:ext cx="6959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0" y="1119240"/>
            <a:ext cx="9144000" cy="0"/>
          </a:xfrm>
          <a:prstGeom prst="line">
            <a:avLst/>
          </a:prstGeom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6416640"/>
            <a:ext cx="9144000" cy="4413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aa55aa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5" name="Picture 13" descr="csc_logoshapes2"/>
          <p:cNvPicPr/>
          <p:nvPr/>
        </p:nvPicPr>
        <p:blipFill>
          <a:blip r:embed="rId7"/>
          <a:stretch/>
        </p:blipFill>
        <p:spPr>
          <a:xfrm>
            <a:off x="7983360" y="3933720"/>
            <a:ext cx="1160640" cy="2484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3"/>
          <p:cNvSpPr/>
          <p:nvPr/>
        </p:nvSpPr>
        <p:spPr>
          <a:xfrm>
            <a:off x="0" y="1139760"/>
            <a:ext cx="9144000" cy="3002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Picture 30" descr="CSC_cmyk-PMSbreak_portrait"/>
          <p:cNvPicPr/>
          <p:nvPr/>
        </p:nvPicPr>
        <p:blipFill>
          <a:blip r:embed="rId8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2" descr="cccclogo [Converted]"/>
          <p:cNvPicPr/>
          <p:nvPr/>
        </p:nvPicPr>
        <p:blipFill>
          <a:blip r:embed="rId9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6760" y="2785680"/>
            <a:ext cx="8280360" cy="1857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National Quality Framework</a:t>
            </a:r>
            <a:br>
              <a:rPr sz="4000"/>
            </a:b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Preparation Working Groups Session 3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orld Ca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4539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npacking the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Diagram 1" descr=""/>
          <p:cNvPicPr/>
          <p:nvPr/>
        </p:nvPicPr>
        <p:blipFill>
          <a:blip r:embed="rId1"/>
          <a:stretch/>
        </p:blipFill>
        <p:spPr>
          <a:xfrm>
            <a:off x="1474920" y="1384200"/>
            <a:ext cx="619416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the Q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57320" y="1928880"/>
            <a:ext cx="702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7058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403280" y="1805040"/>
            <a:ext cx="6934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2"/>
          <p:cNvSpPr/>
          <p:nvPr/>
        </p:nvSpPr>
        <p:spPr>
          <a:xfrm>
            <a:off x="1547640" y="1700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Information and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0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Continue to refine and develop content and strategies for your QI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539640" y="11592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  <a:ea typeface="Calibri"/>
              </a:rPr>
              <a:t>Homework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Cloud Callout 1"/>
          <p:cNvSpPr/>
          <p:nvPr/>
        </p:nvSpPr>
        <p:spPr>
          <a:xfrm>
            <a:off x="2771640" y="3573360"/>
            <a:ext cx="4392720" cy="20163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re you on your NQF journey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…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and how exactly are we going to do t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1665360"/>
            <a:ext cx="7812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Revise and debrief-Revisit code of conduct, NQF on the couch- therapy sessions, questions that have come up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Content, group inquiry and reflect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Homework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Questions and comments from the current sess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Summary for the following week and an agreement on what will be covered.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 rot="20864400">
            <a:off x="177840" y="1412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7030a0"/>
                </a:solidFill>
                <a:latin typeface="Calibri"/>
                <a:ea typeface="Calibri"/>
              </a:rPr>
              <a:t>Every week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Objectives for week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116000" y="1665360"/>
            <a:ext cx="7570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an awareness of  a strengths based approach to  unpacking the standard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content learning on  positive psychology, strengths and virtue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a summary or FAQs for Standards for ‘hard to engage team members’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Analyse the standards looking at the relative strengths of the centre and the areas of growth that form the basis of the QIP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Review and share ideas about QIP development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403280" y="1413000"/>
          <a:ext cx="7740720" cy="5032080"/>
        </p:xfrm>
        <a:graphic>
          <a:graphicData uri="http://schemas.openxmlformats.org/drawingml/2006/table">
            <a:tbl>
              <a:tblPr/>
              <a:tblGrid>
                <a:gridCol w="3870360"/>
                <a:gridCol w="3870360"/>
              </a:tblGrid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he group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i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Use our time efficiently  / Focus on the NQF at sessions / stay on tas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Inform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upport each other and establish new contact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ovide updated information as available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non-judgemental feed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eek to provide clear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to others viewpoints without interrup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Find out answer that I do not know &amp; report 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how respect for others viewpoints / respect people’s input / value all idea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Challenge and question our current understanding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and value and affirm the group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and share knowledge and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Help group members to achieve their NQF goal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each other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support and encouragement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ther more information to retai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each and lear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Encourage each other to speak. Contribute active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Keep children and families as a focus in our decision making and learning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Be willing to talk openly and honest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epare well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Box 2"/>
          <p:cNvSpPr/>
          <p:nvPr/>
        </p:nvSpPr>
        <p:spPr>
          <a:xfrm>
            <a:off x="1024200" y="6145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UR CODE OF COND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QF on th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4162680" cy="2295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"/>
          <p:cNvSpPr/>
          <p:nvPr/>
        </p:nvSpPr>
        <p:spPr>
          <a:xfrm>
            <a:off x="611280" y="1700280"/>
            <a:ext cx="35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222268"/>
                </a:solidFill>
                <a:latin typeface="Calibri"/>
                <a:ea typeface="Calibri"/>
              </a:rPr>
              <a:t>Focus upon the strengths (not knowledge) of your individual team members and think about what each team member brings to the NQF process and the centr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Cloud Callout 5"/>
          <p:cNvSpPr/>
          <p:nvPr/>
        </p:nvSpPr>
        <p:spPr>
          <a:xfrm>
            <a:off x="4643280" y="1717560"/>
            <a:ext cx="3816360" cy="22989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are your thoughts and what are you think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ositive Psychology in the Work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3481560" cy="3313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276880" y="2421000"/>
            <a:ext cx="26049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criteria for strength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2125800" y="1484280"/>
            <a:ext cx="49654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are the virtu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547640" y="1665360"/>
            <a:ext cx="3492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Wisdom and knowledg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Courag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Humanity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Justi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Temperan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Transenden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are the strengths as they relate to the virtu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9562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3:38:50Z</dcterms:created>
  <dc:creator>Maria</dc:creator>
  <dc:description/>
  <dc:language>en-US</dc:language>
  <cp:lastModifiedBy>Gai Lindsay</cp:lastModifiedBy>
  <cp:lastPrinted>2011-07-18T22:58:41Z</cp:lastPrinted>
  <dcterms:modified xsi:type="dcterms:W3CDTF">2012-04-28T07:02:15Z</dcterms:modified>
  <cp:revision>454</cp:revision>
  <dc:subject/>
  <dc:title>Survival Skills for Managers</dc:title>
</cp:coreProperties>
</file>