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24860-B30A-409D-8B5A-CD1EA8278BC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CF04-AEDF-49BD-B19E-72A71E7A1D6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71A88-5DCD-49F7-B236-F21D0A4DFBA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C887-9886-4195-9C31-BFE30B8D40C7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3274-6665-424D-957B-2E872FD4D05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E3E5-DA1F-4F4E-8FA0-E5C03AEACF5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B814-CD78-47A6-9387-A469026DCA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25DD-91E0-418A-8BC2-C3D5120B5F3D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3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Unpacking the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Diagram 1" descr=""/>
          <p:cNvPicPr/>
          <p:nvPr/>
        </p:nvPicPr>
        <p:blipFill>
          <a:blip r:embed="rId1"/>
          <a:stretch/>
        </p:blipFill>
        <p:spPr>
          <a:xfrm>
            <a:off x="1474920" y="1384200"/>
            <a:ext cx="6194160" cy="40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057320" y="1928880"/>
            <a:ext cx="702936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"/>
          <p:cNvPicPr/>
          <p:nvPr/>
        </p:nvPicPr>
        <p:blipFill>
          <a:blip r:embed="rId1"/>
          <a:stretch/>
        </p:blipFill>
        <p:spPr>
          <a:xfrm>
            <a:off x="1619280" y="2205000"/>
            <a:ext cx="70581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2" descr=""/>
          <p:cNvPicPr/>
          <p:nvPr/>
        </p:nvPicPr>
        <p:blipFill>
          <a:blip r:embed="rId1"/>
          <a:stretch/>
        </p:blipFill>
        <p:spPr>
          <a:xfrm>
            <a:off x="1403280" y="1805040"/>
            <a:ext cx="693432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Box 2"/>
          <p:cNvSpPr/>
          <p:nvPr/>
        </p:nvSpPr>
        <p:spPr>
          <a:xfrm>
            <a:off x="1547640" y="1700280"/>
            <a:ext cx="734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tinue to refine and develop content and strategies for your QIP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4" name="Cloud Callout 1"/>
          <p:cNvSpPr/>
          <p:nvPr/>
        </p:nvSpPr>
        <p:spPr>
          <a:xfrm>
            <a:off x="2771640" y="3573360"/>
            <a:ext cx="4392720" cy="20163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116000" y="1665360"/>
            <a:ext cx="7570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n awareness of  a strengths based approach to  unpacking the standard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on  positive psychology, strengths and virtue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a summary or FAQs for Standards for ‘hard to engage team members’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Analyse the standards looking at the relative strengths of the centre and the areas of growth that form the basis of the QIP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and share ideas about QIP development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35880" indent="-3358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3" name="TextBox 3"/>
          <p:cNvSpPr/>
          <p:nvPr/>
        </p:nvSpPr>
        <p:spPr>
          <a:xfrm>
            <a:off x="611280" y="1700280"/>
            <a:ext cx="352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222268"/>
                </a:solidFill>
                <a:latin typeface="Calibri"/>
                <a:ea typeface="Calibri"/>
              </a:rPr>
              <a:t>Focus upon the strengths (not knowledge) of your individual team members and think about what each team member brings to the NQF process and the centre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Positive Psychology in the Workpl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3481560" cy="3313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5276880" y="2421000"/>
            <a:ext cx="2604960" cy="22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criteria for strength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2125800" y="1484280"/>
            <a:ext cx="49654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virtu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1547640" y="1665360"/>
            <a:ext cx="3492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Wisdom and knowled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Courag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Humanity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Justi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empera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471f90"/>
                </a:solidFill>
                <a:latin typeface="Arial"/>
              </a:rPr>
              <a:t>Transendence</a:t>
            </a:r>
            <a:endParaRPr b="0" lang="en-US" sz="28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hat are the strengths as they relate to the virtu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9562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4-28T07:02:15Z</dcterms:modified>
  <cp:revision>454</cp:revision>
  <dc:subject/>
  <dc:title>Survival Skills for Managers</dc:title>
</cp:coreProperties>
</file>